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F0139-77CE-45CB-80A8-8F2F2A419D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D2FEA-5AA4-4EF8-8FE7-E334A2BD0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8F523-66C6-41BE-A61A-4FE1EB3EC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753F3-EFB6-45A0-BCC0-6B0836E78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49DAA-1149-44A2-B7C8-2FF9C63E4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CFA6D-C4B6-490D-B1C8-0960D38A2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D60C7-0057-4D78-8097-DC1AC282C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7395A-817A-496F-B48D-0BCDF74F5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4C0D5-B714-4300-9E35-60D892392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1B1B5-5F4E-4F41-A0A3-ACE940B51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CD7DB-D175-4374-81DF-9685BF671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F77A8-945B-40BF-B663-12D869A03F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9413-F9DD-41D0-B184-E435DD8C79D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520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ryption and Security</a:t>
            </a:r>
            <a:br>
              <a:rPr sz="32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39040" y="3057480"/>
            <a:ext cx="1009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key (symmetric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sender and receiver both have a single key that both encrypts and decrypts a document.  Used for bulk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/Private(Asymmetric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keys are required to encrypt and decrypt a document.  The partners publish and exchange the public keys and the private keys remain secret.  Used for key encryp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25480" y="993600"/>
          <a:ext cx="7677000" cy="49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993600"/>
                    <a:ext cx="767700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27120" y="571680"/>
          <a:ext cx="837396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71680"/>
                    <a:ext cx="83739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e Data Signatur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R (Non Repudiation of Recei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es to the sender that the receiver of a message did receive the mess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o the sender the integrity of the message receiv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O (Non Repudiation of Ori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e identity of the se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at the contents of the document have not been alt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-INT AS1 and AS2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Simple Mail Transfer Protocol (SMT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cures/encrypts data with Secure Multipurpose Internet Messaging Extensions (S/MIME) or Pretty Good Privacy (PGP) method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d when S/MIME is the only available transport and transactions are relatively sm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Hypertext Transfer Protocol or Secured Hypertext Transfer Protocol (HTTP or HTTP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llows object oriented signatures on both object and s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S2 enabled products: Cyclone, webMethods, TIBCO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ng EDI-INT and 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layer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hange encryp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signatur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of encry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 Data Sig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: AS1 and 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 (EDI over the Internet)  - A set of standards that define a common method for sending EDI messages over the internet.  EDI-INT provides guidelines for encryption, decryption and confirmations of transactions through Message Disposition Notification (MD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on - is the transformation of data, using algorithms, into a form that is unreadable by anyone who does not have the key to decrypt th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Techniques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 - Internet email security that uses SMTP(Simple Mail Transfer Protocol) for delivering S/MIME encrypted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 - Internet email security that uses HTTP and HTTP/S for delivering S/MIME encrypted trans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MIME  (Secure Multipurpose Internet Messaging Extension) - Provides encryption and digital signatures for Internet mail message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 (Pretty Good Privacy) - Data security using X.509 or PGP methods for key exchange and management as well as encryp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Protocol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FTP (Secure File Transfer Protocol) - enables the encryption of login information and file transfer over F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N (Virtual Private Network) - enables private networks to span from the end-user, across a public network (Internet) directly to the  home gateway of choice, another companies Intra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H (Secure Shell) - establishes a secure tunnel between two systems for enablement of a secure transport layer via encryption, cryptographic host authentication and integrity prot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 (Secure Hypertext Transfer Protocol) - enables the transfer of documents between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L (Secure Socket Layer) - a program layer that secures  the message transmission between two applications. (HTTP and FTP transmission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Application message - business purchase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EDI translator - EDI 850 X12 standard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SMTP - S/MIME message sent via FTP, HTTP, HT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TCP/IP - Standard internet service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55680" y="968400"/>
          <a:ext cx="638352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968400"/>
                    <a:ext cx="63835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terchange encryption process - To ensure confidential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2400" y="1226880"/>
            <a:ext cx="734868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or - EDI 850 X12 standard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s the interchange to 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andomly generates a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rypts the interchange with the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ymmetric key is encrypted using the trading partner publ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loses the payload in a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nds the S/MIME envelope to the trading partner over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secured EDI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/MIME envelope is rem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rading partner uses private key (Asymmetric) to decrypt the received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ymmetric key is used to decrypt the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gital signature process - To ensure integrity, authentication and non repudiation of ori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generates a message digest to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sender private key (Asymmetric)  to encrypt the message di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included in the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message dig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extracted from the S/MIME envel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public key (Asymmetric) of the sender to decrypt the message digest (this is when the sender is identifi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Generates a new message digest from the decrypted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two message digest are compared to check the integrity of the inter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8-27T18:10:21Z</cp:lastPrinted>
  <dcterms:modified xsi:type="dcterms:W3CDTF">2003-09-17T17:51:06Z</dcterms:modified>
  <cp:revision>918</cp:revision>
  <dc:subject/>
  <dc:title>IBM Software Group</dc:title>
</cp:coreProperties>
</file>